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B7CB0-9399-4C30-B92E-2EC782FFB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A2A31-F949-48E9-97E9-27009C0D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B8B77-EEA2-475B-8663-E9F56F3A4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D8AC6-ADAE-4AEA-AC3F-28BBDDFB3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648E-178A-4D51-BFDB-44DB83F4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AC6F-4A64-458D-8231-A0906F8E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779BA-FE55-495F-9B3B-EB993309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79127-F7BB-4D6C-B12E-D816F818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A8D4-77DF-4EDC-B56F-72CF0638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BCA9A-4880-4C8E-B6CB-43FC7A1A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D994-1B72-44BD-B3FB-18F3D5D3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C6AA-B081-48D6-A3EC-1A190F563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6679-33D2-4049-A0D4-FA248010E7A5}"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he Drainage Basin Syste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4653000"/>
            <a:ext cx="6400800" cy="98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The Water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drainage basin</a:t>
            </a:r>
            <a:r>
              <a:rPr b="0" lang="en-US" sz="3000" spc="-1" strike="noStrike">
                <a:solidFill>
                  <a:srgbClr val="000000"/>
                </a:solidFill>
                <a:latin typeface="Calibri"/>
              </a:rPr>
              <a:t> of a river forms an integral part of the entire hydrological cyc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rainage basin acts as an </a:t>
            </a:r>
            <a:r>
              <a:rPr b="1" lang="en-US" sz="3000" spc="-1" strike="noStrike">
                <a:solidFill>
                  <a:srgbClr val="000000"/>
                </a:solidFill>
                <a:latin typeface="Calibri"/>
              </a:rPr>
              <a:t>open system</a:t>
            </a:r>
            <a:r>
              <a:rPr b="0" lang="en-US" sz="3000" spc="-1" strike="noStrike">
                <a:solidFill>
                  <a:srgbClr val="000000"/>
                </a:solidFill>
                <a:latin typeface="Calibri"/>
              </a:rPr>
              <a:t>, with a number of inputs, outputs, stores and transf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in input into the system is precipitation, mainly as rainfall, but also as things such as snow, sleet and hai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ter is then transferred through the system by the processes of infiltration, percolation, overland flow and throughflow.</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System</a:t>
            </a:r>
            <a:endParaRPr b="0" lang="en-US" sz="4400" spc="-1" strike="noStrike">
              <a:solidFill>
                <a:srgbClr val="000000"/>
              </a:solidFill>
              <a:latin typeface="Calibri"/>
            </a:endParaRPr>
          </a:p>
        </p:txBody>
      </p:sp>
      <p:pic>
        <p:nvPicPr>
          <p:cNvPr id="46" name="Picture 2" descr="http://www.uwsp.edu/geo/faculty/lemke/geog101/images3/22b_drainage_basin.gif"/>
          <p:cNvPicPr/>
          <p:nvPr/>
        </p:nvPicPr>
        <p:blipFill>
          <a:blip r:embed="rId1"/>
          <a:stretch/>
        </p:blipFill>
        <p:spPr>
          <a:xfrm>
            <a:off x="684360" y="1533600"/>
            <a:ext cx="792000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System</a:t>
            </a:r>
            <a:endParaRPr b="0" lang="en-US" sz="4400" spc="-1" strike="noStrike">
              <a:solidFill>
                <a:srgbClr val="000000"/>
              </a:solidFill>
              <a:latin typeface="Calibri"/>
            </a:endParaRPr>
          </a:p>
        </p:txBody>
      </p:sp>
      <p:pic>
        <p:nvPicPr>
          <p:cNvPr id="48" name="Picture 2" descr="http://4.bp.blogspot.com/_bswadbhileE/S9G1UC8kcJI/AAAAAAAAAAs/ZjyObpZOSxU/s1600/2007-10-17_161200.gif"/>
          <p:cNvPicPr/>
          <p:nvPr/>
        </p:nvPicPr>
        <p:blipFill>
          <a:blip r:embed="rId1"/>
          <a:stretch/>
        </p:blipFill>
        <p:spPr>
          <a:xfrm>
            <a:off x="1619280" y="1197000"/>
            <a:ext cx="5832360" cy="55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torage</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rainage basin acts as an </a:t>
            </a:r>
            <a:r>
              <a:rPr b="1" lang="en-US" sz="3200" spc="-1" strike="noStrike">
                <a:solidFill>
                  <a:srgbClr val="000000"/>
                </a:solidFill>
                <a:latin typeface="Calibri"/>
              </a:rPr>
              <a:t>open system</a:t>
            </a:r>
            <a:r>
              <a:rPr b="0" lang="en-US" sz="3200" spc="-1" strike="noStrike">
                <a:solidFill>
                  <a:srgbClr val="000000"/>
                </a:solidFill>
                <a:latin typeface="Calibri"/>
              </a:rPr>
              <a:t>, with a number of inputs, outputs, stores and trans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input into the system is precipitation, mainly as rainfall, but also as things such as snow, sleet and h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ter is then transferred through the system by the processes of infiltration, percolation, overland flow and throughf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torage</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course of its movement between the sky and the river, water can also be stored in a number of places within the system. Vegetation may intercept the falling precipitation and store it, water may be stored on the ground in lakes, it may be stored within the soil, or it may be stored as groundwa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the water will reach the river, which is the primary out put to the system. However water will also have already been lost due to the processes of evaporation, transpiration and evapo-transpi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8:17:20Z</dcterms:created>
  <dc:creator>Dell_02</dc:creator>
  <dc:description/>
  <dc:language>en-US</dc:language>
  <cp:lastModifiedBy>Dell_02</cp:lastModifiedBy>
  <dcterms:modified xsi:type="dcterms:W3CDTF">2011-01-26T18:26:06Z</dcterms:modified>
  <cp:revision>1</cp:revision>
  <dc:subject/>
  <dc:title>The Drainage Basin System</dc:title>
</cp:coreProperties>
</file>